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5486400" cy="41148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2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2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2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2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2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2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2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2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2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2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3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3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3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3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3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3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3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3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3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3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4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4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4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4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4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4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5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5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5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5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5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5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5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5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6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6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6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6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6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6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6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6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7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7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7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7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7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7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7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7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7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49039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808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479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2482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2479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A51E0-B5A6-48F4-928A-574597936D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1D658D-1F5F-4222-A262-55CDBA4470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"/>
          <p:cNvSpPr/>
          <p:nvPr/>
        </p:nvSpPr>
        <p:spPr>
          <a:xfrm>
            <a:off x="1371600" y="763560"/>
            <a:ext cx="5000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94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570F3-BCEE-43DA-8874-A728EC4B54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2440" y="2233440"/>
            <a:ext cx="476424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5244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79396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963440" y="84276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74440" y="84276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52440" y="223344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963440" y="223344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574440" y="223344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79440" y="125280"/>
            <a:ext cx="475776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244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79396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2440" y="2233440"/>
            <a:ext cx="476424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0" y="3673440"/>
            <a:ext cx="4479840" cy="26532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379440" y="3679920"/>
            <a:ext cx="2176560" cy="25884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ONE LAPTOP PER CHIL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1252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3440" indent="-10008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301680" y="3940200"/>
            <a:ext cx="27608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his works are licensed under a Creative Commons Attribution 2.5 License.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4325760" y="3649680"/>
            <a:ext cx="1143000" cy="3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9440" y="1639440"/>
            <a:ext cx="4819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8080"/>
                </a:solidFill>
                <a:latin typeface="Arial"/>
              </a:rPr>
              <a:t>One Laptop per Child</a:t>
            </a: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28" name="AutoShape 2"/>
          <p:cNvSpPr/>
          <p:nvPr/>
        </p:nvSpPr>
        <p:spPr>
          <a:xfrm>
            <a:off x="0" y="2895480"/>
            <a:ext cx="5486400" cy="7621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Networ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0" y="568440"/>
            <a:ext cx="5486400" cy="16732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1220040" y="1981080"/>
            <a:ext cx="30762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b3b3b3"/>
                </a:solidFill>
                <a:latin typeface="Arial"/>
              </a:rPr>
              <a:t>One Laptop per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8080"/>
                </a:solidFill>
                <a:latin typeface="Arial"/>
              </a:rPr>
              <a:t>Do it yourself</a:t>
            </a: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Installation Sheet of Active Antenna 1"/>
          <p:cNvPicPr/>
          <p:nvPr/>
        </p:nvPicPr>
        <p:blipFill>
          <a:blip r:embed="rId1"/>
          <a:stretch/>
        </p:blipFill>
        <p:spPr>
          <a:xfrm>
            <a:off x="304920" y="762120"/>
            <a:ext cx="419076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8080"/>
                </a:solidFill>
                <a:latin typeface="Arial"/>
              </a:rPr>
              <a:t>Active Antennas</a:t>
            </a: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Installation Sheet of Active Antenna 2"/>
          <p:cNvPicPr/>
          <p:nvPr/>
        </p:nvPicPr>
        <p:blipFill>
          <a:blip r:embed="rId1"/>
          <a:stretch/>
        </p:blipFill>
        <p:spPr>
          <a:xfrm>
            <a:off x="304920" y="685800"/>
            <a:ext cx="40384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15800" y="317160"/>
            <a:ext cx="4794480" cy="3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8080"/>
                </a:solidFill>
                <a:latin typeface="Arial"/>
              </a:rPr>
              <a:t>Connectivity Principles</a:t>
            </a: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31560" y="1534680"/>
            <a:ext cx="4802040" cy="15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440"/>
                <a:tab algn="l" pos="485640"/>
                <a:tab algn="l" pos="942840"/>
                <a:tab algn="l" pos="1400040"/>
                <a:tab algn="l" pos="1857240"/>
                <a:tab algn="l" pos="2314440"/>
                <a:tab algn="l" pos="2771640"/>
                <a:tab algn="l" pos="3228840"/>
                <a:tab algn="l" pos="3686040"/>
                <a:tab algn="l" pos="4143240"/>
                <a:tab algn="l" pos="4600440"/>
                <a:tab algn="l" pos="5057640"/>
                <a:tab algn="l" pos="5514840"/>
                <a:tab algn="l" pos="5972040"/>
                <a:tab algn="l" pos="6429240"/>
                <a:tab algn="l" pos="6886440"/>
                <a:tab algn="l" pos="7343640"/>
                <a:tab algn="l" pos="7800840"/>
                <a:tab algn="l" pos="8258040"/>
                <a:tab algn="l" pos="8715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ids are a mission, not (yet) a mar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440"/>
                <a:tab algn="l" pos="485640"/>
                <a:tab algn="l" pos="942840"/>
                <a:tab algn="l" pos="1400040"/>
                <a:tab algn="l" pos="1857240"/>
                <a:tab algn="l" pos="2314440"/>
                <a:tab algn="l" pos="2771640"/>
                <a:tab algn="l" pos="3228840"/>
                <a:tab algn="l" pos="3686040"/>
                <a:tab algn="l" pos="4143240"/>
                <a:tab algn="l" pos="4600440"/>
                <a:tab algn="l" pos="5057640"/>
                <a:tab algn="l" pos="5514840"/>
                <a:tab algn="l" pos="5972040"/>
                <a:tab algn="l" pos="6429240"/>
                <a:tab algn="l" pos="6886440"/>
                <a:tab algn="l" pos="7343640"/>
                <a:tab algn="l" pos="7800840"/>
                <a:tab algn="l" pos="8258040"/>
                <a:tab algn="l" pos="8715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ndwidth is perishable – there is excess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440"/>
                <a:tab algn="l" pos="485640"/>
                <a:tab algn="l" pos="942840"/>
                <a:tab algn="l" pos="1400040"/>
                <a:tab algn="l" pos="1857240"/>
                <a:tab algn="l" pos="2314440"/>
                <a:tab algn="l" pos="2771640"/>
                <a:tab algn="l" pos="3228840"/>
                <a:tab algn="l" pos="3686040"/>
                <a:tab algn="l" pos="4143240"/>
                <a:tab algn="l" pos="4600440"/>
                <a:tab algn="l" pos="5057640"/>
                <a:tab algn="l" pos="5514840"/>
                <a:tab algn="l" pos="5972040"/>
                <a:tab algn="l" pos="6429240"/>
                <a:tab algn="l" pos="6886440"/>
                <a:tab algn="l" pos="7343640"/>
                <a:tab algn="l" pos="7800840"/>
                <a:tab algn="l" pos="8258040"/>
                <a:tab algn="l" pos="8715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9.99% availability is not always necess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440"/>
                <a:tab algn="l" pos="485640"/>
                <a:tab algn="l" pos="942840"/>
                <a:tab algn="l" pos="1400040"/>
                <a:tab algn="l" pos="1857240"/>
                <a:tab algn="l" pos="2314440"/>
                <a:tab algn="l" pos="2771640"/>
                <a:tab algn="l" pos="3228840"/>
                <a:tab algn="l" pos="3686040"/>
                <a:tab algn="l" pos="4143240"/>
                <a:tab algn="l" pos="4600440"/>
                <a:tab algn="l" pos="5057640"/>
                <a:tab algn="l" pos="5514840"/>
                <a:tab algn="l" pos="5972040"/>
                <a:tab algn="l" pos="6429240"/>
                <a:tab algn="l" pos="6886440"/>
                <a:tab algn="l" pos="7343640"/>
                <a:tab algn="l" pos="7800840"/>
                <a:tab algn="l" pos="8258040"/>
                <a:tab algn="l" pos="8715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ttoms up along with top 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440"/>
                <a:tab algn="l" pos="485640"/>
                <a:tab algn="l" pos="942840"/>
                <a:tab algn="l" pos="1400040"/>
                <a:tab algn="l" pos="1857240"/>
                <a:tab algn="l" pos="2314440"/>
                <a:tab algn="l" pos="2771640"/>
                <a:tab algn="l" pos="3228840"/>
                <a:tab algn="l" pos="3686040"/>
                <a:tab algn="l" pos="4143240"/>
                <a:tab algn="l" pos="4600440"/>
                <a:tab algn="l" pos="5057640"/>
                <a:tab algn="l" pos="5514840"/>
                <a:tab algn="l" pos="5972040"/>
                <a:tab algn="l" pos="6429240"/>
                <a:tab algn="l" pos="6886440"/>
                <a:tab algn="l" pos="7343640"/>
                <a:tab algn="l" pos="7800840"/>
                <a:tab algn="l" pos="8258040"/>
                <a:tab algn="l" pos="8715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ctricity is sca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1426"/>
              </a:spcAft>
              <a:buNone/>
              <a:tabLst>
                <a:tab algn="l" pos="0"/>
                <a:tab algn="l" pos="28440"/>
                <a:tab algn="l" pos="485640"/>
                <a:tab algn="l" pos="942840"/>
                <a:tab algn="l" pos="1400040"/>
                <a:tab algn="l" pos="1857240"/>
                <a:tab algn="l" pos="2314440"/>
                <a:tab algn="l" pos="2771640"/>
                <a:tab algn="l" pos="3228840"/>
                <a:tab algn="l" pos="3686040"/>
                <a:tab algn="l" pos="4143240"/>
                <a:tab algn="l" pos="4600440"/>
                <a:tab algn="l" pos="5057640"/>
                <a:tab algn="l" pos="5514840"/>
                <a:tab algn="l" pos="5972040"/>
                <a:tab algn="l" pos="6429240"/>
                <a:tab algn="l" pos="6886440"/>
                <a:tab algn="l" pos="7343640"/>
                <a:tab algn="l" pos="7800840"/>
                <a:tab algn="l" pos="8258040"/>
                <a:tab algn="l" pos="87152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8080"/>
                </a:solidFill>
                <a:latin typeface="Arial"/>
              </a:rPr>
              <a:t>Means of Connectivity</a:t>
            </a: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89080" indent="-2563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LPC is technology agnostic when it comes to connecting schools and kids to the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-2563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reline, Wireless, Satellite are already and will be used to achieve our connectivity goa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-2563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ksmy, Cambodia: Two-Way Satellite backhaul, local WiFi distribution between 3 schools, WiFi access within the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-2563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dal, Uruguay: DSL backhaul, Pre-WiMax point-to-point distribution link, WiFi and Mesh access within the school and the t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8080"/>
                </a:solidFill>
                <a:latin typeface="Arial"/>
              </a:rPr>
              <a:t>Example: Cellular Operator</a:t>
            </a:r>
            <a:endParaRPr b="1" lang="en-US" sz="1800" spc="-1" strike="noStrike">
              <a:solidFill>
                <a:srgbClr val="ff8080"/>
              </a:solidFill>
              <a:latin typeface="Arial"/>
            </a:endParaRPr>
          </a:p>
        </p:txBody>
      </p:sp>
      <p:pic>
        <p:nvPicPr>
          <p:cNvPr id="176" name="Picture 3" descr="cellular-olpc-1"/>
          <p:cNvPicPr/>
          <p:nvPr/>
        </p:nvPicPr>
        <p:blipFill>
          <a:blip r:embed="rId1"/>
          <a:stretch/>
        </p:blipFill>
        <p:spPr>
          <a:xfrm>
            <a:off x="249120" y="1077840"/>
            <a:ext cx="493560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8080"/>
                </a:solidFill>
                <a:latin typeface="Arial"/>
              </a:rPr>
              <a:t>Example: Cellular Operator</a:t>
            </a:r>
            <a:br>
              <a:rPr sz="1800"/>
            </a:br>
            <a:r>
              <a:rPr b="1" lang="en-US" sz="1200" spc="-1" strike="noStrike">
                <a:solidFill>
                  <a:srgbClr val="ff8080"/>
                </a:solidFill>
                <a:latin typeface="Arial"/>
              </a:rPr>
              <a:t>(with added point to multipoint distribution radios)</a:t>
            </a:r>
            <a:endParaRPr b="1" lang="en-US" sz="1200" spc="-1" strike="noStrike">
              <a:solidFill>
                <a:srgbClr val="ff8080"/>
              </a:solidFill>
              <a:latin typeface="Arial"/>
            </a:endParaRPr>
          </a:p>
        </p:txBody>
      </p:sp>
      <p:pic>
        <p:nvPicPr>
          <p:cNvPr id="178" name="Picture 3" descr="cellular-olpc-2"/>
          <p:cNvPicPr/>
          <p:nvPr/>
        </p:nvPicPr>
        <p:blipFill>
          <a:blip r:embed="rId1"/>
          <a:stretch/>
        </p:blipFill>
        <p:spPr>
          <a:xfrm>
            <a:off x="208080" y="1077840"/>
            <a:ext cx="502416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8080"/>
                </a:solidFill>
                <a:latin typeface="Arial"/>
              </a:rPr>
              <a:t>Principles</a:t>
            </a: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609120"/>
            <a:ext cx="4038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0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rning happens by interacting as much as it happens by teaching =&gt; child2child as important as child2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80880" y="13096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4954320" cy="5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8080"/>
                </a:solidFill>
                <a:latin typeface="Arial"/>
              </a:rPr>
              <a:t>Our approach</a:t>
            </a: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44197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WiFi network 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h Networking built on top of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mesh2"/>
          <p:cNvPicPr/>
          <p:nvPr/>
        </p:nvPicPr>
        <p:blipFill>
          <a:blip r:embed="rId1"/>
          <a:stretch/>
        </p:blipFill>
        <p:spPr>
          <a:xfrm>
            <a:off x="457200" y="1828800"/>
            <a:ext cx="281952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8080"/>
                </a:solidFill>
                <a:latin typeface="Arial"/>
              </a:rPr>
              <a:t>Our approach</a:t>
            </a: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448160" cy="83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aboration software (middleware, applications and U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olpc_09_550x413"/>
          <p:cNvPicPr/>
          <p:nvPr/>
        </p:nvPicPr>
        <p:blipFill>
          <a:blip r:embed="rId1"/>
          <a:stretch/>
        </p:blipFill>
        <p:spPr>
          <a:xfrm>
            <a:off x="533520" y="1523880"/>
            <a:ext cx="274320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8080"/>
                </a:solidFill>
                <a:latin typeface="Arial"/>
              </a:rPr>
              <a:t>OLPC Mesh Design Goals</a:t>
            </a: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power consum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transparent as possible to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d on stand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nectivity/R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es NOT replace Access Points – It complements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mesh1"/>
          <p:cNvPicPr/>
          <p:nvPr/>
        </p:nvPicPr>
        <p:blipFill>
          <a:blip r:embed="rId1"/>
          <a:stretch/>
        </p:blipFill>
        <p:spPr>
          <a:xfrm>
            <a:off x="380880" y="2514600"/>
            <a:ext cx="1905120" cy="1171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mesh2"/>
          <p:cNvPicPr/>
          <p:nvPr/>
        </p:nvPicPr>
        <p:blipFill>
          <a:blip r:embed="rId2"/>
          <a:stretch/>
        </p:blipFill>
        <p:spPr>
          <a:xfrm>
            <a:off x="3200400" y="2438280"/>
            <a:ext cx="198108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8080"/>
                </a:solidFill>
                <a:latin typeface="Arial"/>
              </a:rPr>
              <a:t>XO Networking Architecture</a:t>
            </a: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3068640" y="2695680"/>
            <a:ext cx="1494000" cy="704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ctr">
            <a:noAutofit/>
          </a:bodyPr>
          <a:p>
            <a:pPr algn="ctr">
              <a:lnSpc>
                <a:spcPct val="123000"/>
              </a:lnSpc>
              <a:tabLst>
                <a:tab algn="l" pos="0"/>
                <a:tab algn="l" pos="249120"/>
                <a:tab algn="l" pos="498600"/>
                <a:tab algn="l" pos="747720"/>
                <a:tab algn="l" pos="996840"/>
                <a:tab algn="l" pos="1246320"/>
                <a:tab algn="l" pos="1495440"/>
                <a:tab algn="l" pos="1744560"/>
                <a:tab algn="l" pos="1994040"/>
                <a:tab algn="l" pos="2243160"/>
                <a:tab algn="l" pos="2492280"/>
                <a:tab algn="l" pos="2741760"/>
                <a:tab algn="l" pos="2990880"/>
                <a:tab algn="l" pos="3240000"/>
                <a:tab algn="l" pos="3489480"/>
                <a:tab algn="l" pos="3738600"/>
                <a:tab algn="l" pos="3987720"/>
                <a:tab algn="l" pos="4237200"/>
                <a:tab algn="l" pos="4486320"/>
                <a:tab algn="l" pos="4735440"/>
                <a:tab algn="l" pos="4984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D LX700 CP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 flipH="1">
            <a:off x="3068640" y="1782720"/>
            <a:ext cx="1494000" cy="374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ctr">
            <a:noAutofit/>
          </a:bodyPr>
          <a:p>
            <a:pPr algn="ctr">
              <a:lnSpc>
                <a:spcPct val="123000"/>
              </a:lnSpc>
              <a:tabLst>
                <a:tab algn="l" pos="0"/>
                <a:tab algn="l" pos="249120"/>
                <a:tab algn="l" pos="498600"/>
                <a:tab algn="l" pos="747720"/>
                <a:tab algn="l" pos="996840"/>
                <a:tab algn="l" pos="1246320"/>
                <a:tab algn="l" pos="1495440"/>
                <a:tab algn="l" pos="1744560"/>
                <a:tab algn="l" pos="1994040"/>
                <a:tab algn="l" pos="2243160"/>
                <a:tab algn="l" pos="2492280"/>
                <a:tab algn="l" pos="2741760"/>
                <a:tab algn="l" pos="2990880"/>
                <a:tab algn="l" pos="3240000"/>
                <a:tab algn="l" pos="3489480"/>
                <a:tab algn="l" pos="3738600"/>
                <a:tab algn="l" pos="3987720"/>
                <a:tab algn="l" pos="4237200"/>
                <a:tab algn="l" pos="4486320"/>
                <a:tab algn="l" pos="4735440"/>
                <a:tab algn="l" pos="4984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rvell 8388 SoC Radi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3857760" y="2157480"/>
            <a:ext cx="0" cy="5382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981600" y="2239920"/>
            <a:ext cx="78732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680" rIns="49680" tIns="24840" bIns="24840" anchor="t">
            <a:spAutoFit/>
          </a:bodyPr>
          <a:p>
            <a:pPr>
              <a:lnSpc>
                <a:spcPct val="123000"/>
              </a:lnSpc>
              <a:spcBef>
                <a:spcPts val="624"/>
              </a:spcBef>
              <a:tabLst>
                <a:tab algn="l" pos="0"/>
                <a:tab algn="l" pos="249120"/>
                <a:tab algn="l" pos="498600"/>
                <a:tab algn="l" pos="747720"/>
                <a:tab algn="l" pos="996840"/>
                <a:tab algn="l" pos="1246320"/>
                <a:tab algn="l" pos="1495440"/>
                <a:tab algn="l" pos="1744560"/>
                <a:tab algn="l" pos="1994040"/>
                <a:tab algn="l" pos="2243160"/>
                <a:tab algn="l" pos="2492280"/>
                <a:tab algn="l" pos="2741760"/>
                <a:tab algn="l" pos="2990880"/>
                <a:tab algn="l" pos="3240000"/>
                <a:tab algn="l" pos="3489480"/>
                <a:tab algn="l" pos="3738600"/>
                <a:tab algn="l" pos="3987720"/>
                <a:tab algn="l" pos="4237200"/>
                <a:tab algn="l" pos="4486320"/>
                <a:tab algn="l" pos="4735440"/>
                <a:tab algn="l" pos="4984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B 2.0 Bu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3814920" y="1409760"/>
            <a:ext cx="0" cy="37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Group 8"/>
          <p:cNvGrpSpPr/>
          <p:nvPr/>
        </p:nvGrpSpPr>
        <p:grpSpPr>
          <a:xfrm>
            <a:off x="3567240" y="1162080"/>
            <a:ext cx="455400" cy="247680"/>
            <a:chOff x="3567240" y="1162080"/>
            <a:chExt cx="455400" cy="247680"/>
          </a:xfrm>
        </p:grpSpPr>
        <p:sp>
          <p:nvSpPr>
            <p:cNvPr id="151" name="Line 9"/>
            <p:cNvSpPr/>
            <p:nvPr/>
          </p:nvSpPr>
          <p:spPr>
            <a:xfrm flipV="1">
              <a:off x="3815640" y="1162080"/>
              <a:ext cx="20700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10"/>
            <p:cNvSpPr/>
            <p:nvPr/>
          </p:nvSpPr>
          <p:spPr>
            <a:xfrm flipH="1" flipV="1">
              <a:off x="3567240" y="1162080"/>
              <a:ext cx="24840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11"/>
            <p:cNvSpPr/>
            <p:nvPr/>
          </p:nvSpPr>
          <p:spPr>
            <a:xfrm flipV="1">
              <a:off x="3815640" y="116208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12"/>
            <p:cNvSpPr/>
            <p:nvPr/>
          </p:nvSpPr>
          <p:spPr>
            <a:xfrm>
              <a:off x="3567240" y="1162080"/>
              <a:ext cx="45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Line 13"/>
          <p:cNvSpPr/>
          <p:nvPr/>
        </p:nvSpPr>
        <p:spPr>
          <a:xfrm>
            <a:off x="704880" y="2446200"/>
            <a:ext cx="443700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1036800" y="1825560"/>
            <a:ext cx="186660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680" rIns="49680" tIns="24840" bIns="24840" anchor="t">
            <a:spAutoFit/>
          </a:bodyPr>
          <a:p>
            <a:pPr>
              <a:lnSpc>
                <a:spcPct val="123000"/>
              </a:lnSpc>
              <a:spcBef>
                <a:spcPts val="814"/>
              </a:spcBef>
              <a:tabLst>
                <a:tab algn="l" pos="0"/>
                <a:tab algn="l" pos="249120"/>
                <a:tab algn="l" pos="498600"/>
                <a:tab algn="l" pos="747720"/>
                <a:tab algn="l" pos="996840"/>
                <a:tab algn="l" pos="1246320"/>
                <a:tab algn="l" pos="1495440"/>
                <a:tab algn="l" pos="1744560"/>
                <a:tab algn="l" pos="1994040"/>
                <a:tab algn="l" pos="2243160"/>
                <a:tab algn="l" pos="2492280"/>
                <a:tab algn="l" pos="2741760"/>
                <a:tab algn="l" pos="2990880"/>
                <a:tab algn="l" pos="3240000"/>
                <a:tab algn="l" pos="3489480"/>
                <a:tab algn="l" pos="3738600"/>
                <a:tab algn="l" pos="3987720"/>
                <a:tab algn="l" pos="4237200"/>
                <a:tab algn="l" pos="4486320"/>
                <a:tab algn="l" pos="4735440"/>
                <a:tab algn="l" pos="4984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ayer 2: Frame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077840" y="2862360"/>
            <a:ext cx="186696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680" rIns="49680" tIns="24840" bIns="24840" anchor="t">
            <a:spAutoFit/>
          </a:bodyPr>
          <a:p>
            <a:pPr>
              <a:lnSpc>
                <a:spcPct val="123000"/>
              </a:lnSpc>
              <a:spcBef>
                <a:spcPts val="814"/>
              </a:spcBef>
              <a:tabLst>
                <a:tab algn="l" pos="0"/>
                <a:tab algn="l" pos="249120"/>
                <a:tab algn="l" pos="498600"/>
                <a:tab algn="l" pos="747720"/>
                <a:tab algn="l" pos="996840"/>
                <a:tab algn="l" pos="1246320"/>
                <a:tab algn="l" pos="1495440"/>
                <a:tab algn="l" pos="1744560"/>
                <a:tab algn="l" pos="1994040"/>
                <a:tab algn="l" pos="2243160"/>
                <a:tab algn="l" pos="2492280"/>
                <a:tab algn="l" pos="2741760"/>
                <a:tab algn="l" pos="2990880"/>
                <a:tab algn="l" pos="3240000"/>
                <a:tab algn="l" pos="3489480"/>
                <a:tab algn="l" pos="3738600"/>
                <a:tab algn="l" pos="3987720"/>
                <a:tab algn="l" pos="4237200"/>
                <a:tab algn="l" pos="4486320"/>
                <a:tab algn="l" pos="4735440"/>
                <a:tab algn="l" pos="4984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ayer 3: Packe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8080"/>
                </a:solidFill>
                <a:latin typeface="Arial"/>
              </a:rPr>
              <a:t>Collaboration</a:t>
            </a: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ility of students to share documents and directly interact with one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a network connection between the student’s lapto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tional Wireless (802.11b/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h Wireless (802.1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sibly long d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8080"/>
                </a:solidFill>
                <a:latin typeface="Arial"/>
              </a:rPr>
              <a:t>Mesh vs. WiFi</a:t>
            </a: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ireless mesh (802.11s) is an extension of traditional WiFi (802.11b/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use the same radio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usable channels around 2.4G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less mesh devices (the laptop) interoperate with WiFi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h does not replace WiFi (it extends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Fi should be used at Sch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8080"/>
                </a:solidFill>
                <a:latin typeface="Arial"/>
              </a:rPr>
              <a:t>School WiFi</a:t>
            </a: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22384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r more WiFi (802.11b/g) access points, connected to a central switch and schoo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2514600" y="457200"/>
            <a:ext cx="2679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Camrbridge, MA
April 23-27, 2007
</dc:description>
  <dc:language>en-US</dc:language>
  <cp:lastModifiedBy> </cp:lastModifiedBy>
  <cp:lastPrinted>2008-04-01T14:10:37Z</cp:lastPrinted>
  <dcterms:modified xsi:type="dcterms:W3CDTF">2008-09-18T20:09:29Z</dcterms:modified>
  <cp:revision>79</cp:revision>
  <dc:subject/>
  <dc:title>One Laptop per Child</dc:title>
</cp:coreProperties>
</file>